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304-C1F2-40EA-B2C2-7390D073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E3E-5FBA-4248-A374-FE35C802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E25-F79A-42AA-A750-D4CD9E63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ED4-A384-45B6-B36E-A04F6DE4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404-20C8-4814-A2B3-2F367114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CEC-A961-4834-A126-2A0DBCE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34E-1279-41BA-8153-1F8F880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F1F-EC8B-45B1-B7B0-2A07482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4BA-E6CA-4B66-833A-1F2ED839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D2D-E834-4784-AA5B-AD193BC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4B9-5706-44B0-89EA-E46DC74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926-C910-469B-B876-3DAD1C0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F3A-DB0D-4630-B1CC-ECD0ED01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838080"/>
            <a:ext cx="6781680" cy="632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2’s, starting with 2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588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 pattern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797256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8229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8839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838080"/>
            <a:ext cx="6781680" cy="632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2’s, starting with 1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88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 pattern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797256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8229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8839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68580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5’s, starting with 5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blue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9343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ny pattern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723888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7543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7924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23104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610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8991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8915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4.bp.blogspot.com/_b4aKEuxtAzY/THUKCR6X9CI/AAAAAAAAACY/ARUZZdsT8SU/s320/3215051141_72b4bc453a_o.gif"/>
          <p:cNvPicPr/>
          <p:nvPr/>
        </p:nvPicPr>
        <p:blipFill>
          <a:blip r:embed="rId1"/>
          <a:stretch/>
        </p:blipFill>
        <p:spPr>
          <a:xfrm>
            <a:off x="76320" y="685800"/>
            <a:ext cx="67816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76320"/>
            <a:ext cx="685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Name: ____________________________________________Date: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Skip count by 5’s, starting with 2.  Color all of the boxes you say </a:t>
            </a:r>
            <a:r>
              <a:rPr b="1" lang="en-US" sz="1400" spc="-1" strike="noStrike">
                <a:solidFill>
                  <a:srgbClr val="000000"/>
                </a:solidFill>
                <a:latin typeface="Kristen ITC"/>
              </a:rPr>
              <a:t>yellow</a:t>
            </a: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010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Do you notice any pattern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731520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7620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80010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8307360"/>
            <a:ext cx="66294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I notice a pattern in the                                 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risten ITC"/>
              </a:rPr>
              <a:t>The pattern cou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8686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9067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8991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55:55Z</dcterms:created>
  <dc:creator>aanderson</dc:creator>
  <dc:description/>
  <dc:language>en-US</dc:language>
  <cp:lastModifiedBy>aanderson</cp:lastModifiedBy>
  <dcterms:modified xsi:type="dcterms:W3CDTF">2012-09-27T12:15:10Z</dcterms:modified>
  <cp:revision>2</cp:revision>
  <dc:subject/>
  <dc:title>Slide 1</dc:title>
</cp:coreProperties>
</file>